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FA9-3CFD-4553-9612-32724770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A51-69D3-4CBB-85C9-1FA03A3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733-4E7F-4ADE-8F98-FBA99C99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9B5-C75E-4B8E-9ABF-AE315B46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01D-E6C4-402F-928D-68C62BAB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DCB-E934-4C25-A7FB-E3C3B38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C20-7082-4AB7-9AD8-960323D1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4EB-4CE5-4721-BE24-1E95374B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1C0-485B-4F5E-8ADC-138F479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F64-31D0-44BC-A7B7-A38CAE9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C56-D2AA-42F4-BEF0-D8392E9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C35-4D5C-4D34-9A14-D3770683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1AE-3562-4626-9786-934D3CE19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roduction to Reaction R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measure how the mass of coca-cola changes over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hen analyze our 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reate this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elapsed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of cup and so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llect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data for 3 or 4 minutes until the mass no longer changes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0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xcel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how to plot two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ed vs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aining vs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rate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=120s and t=2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antaneous rates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=100s and t=2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rate of change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=120s and t=2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antaneous rates of chan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=100s and t=25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athematical equation that relates the rate of change for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the rate of change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gener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 +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3C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the rate of change of A in terms of B, then C, then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5:52:31Z</dcterms:created>
  <dc:creator>FradkiL</dc:creator>
  <dc:description/>
  <dc:language>en-US</dc:language>
  <cp:lastModifiedBy>FradkiL</cp:lastModifiedBy>
  <dcterms:modified xsi:type="dcterms:W3CDTF">2010-03-30T16:21:13Z</dcterms:modified>
  <cp:revision>4</cp:revision>
  <dc:subject/>
  <dc:title>Introduction to Reaction Rates!</dc:title>
</cp:coreProperties>
</file>